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75D-06A5-43EB-A8B4-EC1F6844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B39-BE65-4355-B916-7A0E2E03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C422-0AF4-457B-9E88-2BE2665F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67C9E-C5EA-47BA-80A4-E067D76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86092-2C52-47D9-BD3B-407CCEE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8D602-DB83-43F4-ABD7-77FFB642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BE7DB-5B27-43A9-A793-26FE825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01D2-BDB5-4471-AE28-87C71AFF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BE9D-0D07-471D-9872-AE98F5B2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E77D6-D6C7-4CF1-AF5B-B7EA4A2C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D99EC-2F69-4ACC-B7EF-DCB233DE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24BFC-2E21-4350-BAA7-B82ED39C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3CA-B9C7-4909-BC0A-594A57C1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68C69-D6A8-4994-96B3-1DDD27B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5995A-FB8A-4047-B759-7274DDE0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F87A8-EC11-4705-B085-919C03C3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67C65-B50A-4B49-9061-918E29D5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C3671-184B-44C4-9955-50DA825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952EB-4224-4C35-BCD1-FA0F670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7AD7-27FB-4935-AF78-7E238276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F4B4E-A358-4BD7-834A-95EBF70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FF62D-4F3C-401D-A969-C3032477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443E0-8F8B-4901-A814-C9BB15C1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615-80E3-4FE5-BB20-83766263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8E88F-F762-48E5-B5AF-9E338FE8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A96C7-DC12-452F-8F6D-9A0D1BBC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D614-6E1D-4926-816B-7C93070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0A484-8DDA-40FB-A6C3-BC89CB26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C44E4-D3EE-414C-B15F-E53D14B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4E9E-BC69-4B15-A8E2-19027E9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947E1-79BD-453D-B608-BD96BAC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510AA-3275-4B6A-9924-0C875E6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B843-9F56-405F-8172-5974694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875D5-72F9-400E-A285-00EF0A28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CD677-A2C0-4669-9243-0303C943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7C045-0B24-449D-8EBA-9132621F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37F37-B895-49F8-A9D4-46D62A98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3880A-D2B4-4ED0-BE78-80DC50C7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F87E6-9DDB-4821-8D88-C41D42D3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2AFDF-4BAB-4362-9B93-90870991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548E0-D9E0-42D5-9BC6-7019A246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AD2D-1FE0-403A-A134-7925868B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01A94-D558-47F1-AA3F-4FC2D9E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10254-D3E5-4A8B-862F-7902629E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3D581-7BFC-4C4C-89F7-A4B4020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60497-D101-45EB-ABEE-CF3CF142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2B5DC-DCB5-46A9-BDB4-D0B3D9E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7B902-5091-4B46-8F0F-9DB42DEE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F4744-05F3-49C8-A873-411D694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F7B98-01A9-4128-BD9B-3F5FE4AD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09A6F-D287-4D79-8FD0-4EA0D4A6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D1572-68B7-422C-A2B5-3263F43B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1D1822-89BB-4B8C-B6DC-93452BA6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319D0-2198-4045-BD82-CB817CBD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6623D-4460-400B-B89D-E90A8218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EC20D-AF52-4DB0-BBB3-D2FACDE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497B-4CDB-401B-A15D-E5819C74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A9953-0513-434D-9294-43246A2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C9257-1F56-4175-BB29-6A52FDA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7D20B-62B2-49A4-B7ED-2B7C5B9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A6B95-6B4D-4411-9F03-5154FE3F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772DF-31D4-422A-BC7B-819159C0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2AB49-7986-4F20-88B9-C12C1131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A7A6A-6C9D-4270-A42F-7F335AAB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C0E64-B144-49AF-899D-3E9814C1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F319E-EE82-4EFA-8D0D-ADF36306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7D67A-A01F-4F0A-B6CB-274FF35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8E27F-FF82-427A-92D9-C900497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9E066-1158-477E-91AB-75A177D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F0CCE-6128-435D-A565-D0AFBEFC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EA0DD-31E0-4594-A8FF-C104085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22B3D-6607-4395-A52B-C45D734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3161A-1054-46A6-B96A-8349BB3A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A8AF6-A777-4044-A659-F9E9D169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7C270-B3DF-4897-9E38-D27D2DEB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0D1BE-0734-436E-A580-572894BB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49741-871E-4FFE-B8C6-A66FE176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2D3F9-6C14-4D38-839A-776B489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6EEDD-DE4C-4527-A7E4-8F4D7C3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17B34-903F-4F7D-A35E-0F067FE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93C-23D6-4C27-BE11-93D6AD11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786B4-69F0-4C37-B8B2-DC98EBE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2E7DA-F891-47A3-9458-E657549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185C-63A8-44DD-9B94-87EB223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5A329-6CBF-467E-9C31-A3A21AD2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2BE27-33DB-47B3-BB95-AA5E72EE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51EC-0CB7-4358-94C2-76B99AFB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0968-546B-4094-9E13-BC3F4642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FCED-4562-4361-B27E-8062DAA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FE1E-8915-432F-8A75-BF79990E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CA4D9-CA3B-4E2B-B91A-A6F03A7A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B5E-5BA7-455F-8BE7-A2CBE760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AC7C-448F-45EF-9B96-39651223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61EAC-9E69-4885-A246-08F03C8D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7DF7-E14A-4546-8471-DFDCF1A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A9CA-59FB-4630-9FC2-DD18E51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58754-DEAB-4157-9DA6-DC9D3DB2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28D8-A282-4A0F-A1CE-2F5F68BB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9C05-5CC5-4790-A180-96066893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14E3-F2F4-4296-BECA-F6678D6F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90596-B986-4867-A6F7-90F436F2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30D4-8AB3-4F8E-BD9B-1DCD833E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8DF-6CCB-4DC0-AA81-59ABD2C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F57D-BED4-4793-B4D6-7478C16D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8190-4D84-4B1C-9B90-3889821A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ECD15-4A1B-4C0B-A5DA-6EC9249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685C-6814-4832-8F50-974C621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92A7-1B29-4076-9F97-43E5523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739D-A79C-472A-81CE-B67AB4AE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9190-2F63-48D1-A405-15A0F8D2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359B-1525-491E-9D25-B207CAD7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187E-AD5D-43EB-88C8-CF14DE21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43FB23-136F-44C8-A51D-5DF06739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1CA-21ED-44D6-8CAE-A8272FC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6CBE26-470C-4C21-BD1D-C66B0F1C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0F7C4-6793-4976-992D-E2CFBA1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2471A-26E5-4FA6-B5C8-50506C4A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611788-DEAB-4C6E-BEC9-ED921987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27D12-D3D4-41D0-ACC7-28E52DD4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A949A-BA77-4561-ADD6-CF44814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2B5648-0038-4B4E-B9AA-9ECA288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D25EF-570A-4821-8D5F-15DD1D2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D896B-B44F-47BB-A6F8-A3C643A4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2C8C2-418F-4017-B22C-FD0399D3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A0B-D2F8-4172-A752-E7918E7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44B8E-8527-4242-8D2F-B16C2E46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359E-C55D-4D76-BB9B-6D42BE04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5B717-7B43-4264-972A-AA5180D9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55B83-4010-4561-B113-1E14F0D6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10F8-B514-470D-B4BF-0E91C93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597A-4954-41F9-8191-66E760D0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55905-2EAD-41EA-BEE9-5E42F76F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3EB6-A1A1-4128-8FA3-A11D921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066ED-C40A-4160-9D0F-B4618F1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8AA04-ADFA-4162-B059-F2AC6D0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710-6137-420C-8C50-802ABB3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4EC37-15EC-4F80-A476-21694C6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E879-9ED6-40FD-B353-0124BC3C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10E2-C845-4B18-8B6D-4B6A3EEF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898DB-FBE8-4DCA-9799-A5E19CE5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2F8F9-4875-4B2F-880C-DA339072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21159-47AF-40CB-B6E2-52BB8E51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BFED-5770-47C0-B81B-277B02C1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AB5B-F563-41CC-87C6-BABF2F5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27552-21F9-4C5E-A0D9-A2F4B90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A87E5-43E8-4463-83A3-9E44710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CC8-64D5-4FC3-B672-7CE9D8FB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81C15-D527-4771-82C1-CE07141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DFFE-CC7A-4462-8D49-00C8B96C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C57C-7328-46EC-BFE6-03F32C6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590CE-6B81-4263-9A31-DF92DF3A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3DCC-8DD7-41AB-BBE3-F3F6A689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AAA27-C0C3-4C22-9252-3815A8C8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DC0C-D955-4C9E-B3F4-DE87D75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0EAD8-AA08-4C94-9844-DB18E49A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B7329-F35E-4BF3-BF94-37EDFB6E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08BF-3446-4224-B48C-8A667F3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326-9A34-49AC-841B-0CC4FCB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BDF0-040A-4C77-B6A6-728DA61D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2853-AFC2-420E-818D-90D10872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F48F-E7D6-4910-B3E8-E6585F6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72A1-66FD-4A1A-A62A-7FBFEF29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9F0B-E099-4763-8B3F-CBE05C32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00A54-5349-4E1B-B92F-83B7114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34BC9-2E15-43BB-B15C-11AF0DA5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687D1-E504-4C13-9AF8-8622982B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9AF46-6731-4649-9A52-3267F9E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A3DAC-5C35-4963-A029-9D7293C6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5222-9BF2-4212-A827-DCA8ACE8C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5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6D9-150F-4FE7-AC82-8A1D8D4304D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0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0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0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1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1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2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4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1E0B-5E35-4E86-A64D-AFD08FE7F9B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7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7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8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8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9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0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0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1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2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2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3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4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7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8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8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19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1B07-6251-4CE5-B427-202D0585237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E5D-A23F-4DF2-B8E9-7BB8404EF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1BF-A35B-4051-8EBE-FDC3B5668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013D-72B4-4CEF-A1C8-270CAE6D9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DCE-94B5-4CDC-8BB3-9A05C4141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FE8-25B1-4218-910C-DDD862B3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ED8B-7407-43AC-BF88-D0881D0E0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43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95AF-4E03-47AC-BE6F-6B636770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633A-4D88-4193-85FF-B413BB6FC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FFE-B486-429F-A1F3-D4EC3DA40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1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37B2-5C4A-4F15-9297-98B9B570F0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La Rutina del Muchach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: Alec Daly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: Hunter Mor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4495680" cy="379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La Mañ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muchach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acues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acues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las ocho y media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evan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seguida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o 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arde para la escuela. Necesit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prepa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1"/>
          <a:stretch/>
        </p:blipFill>
        <p:spPr>
          <a:xfrm>
            <a:off x="4572000" y="2198520"/>
            <a:ext cx="36576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imes New Roman"/>
              </a:rPr>
              <a:t>El Cuarto de Ba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imes New Roman"/>
                <a:ea typeface="Tahoma"/>
              </a:rPr>
              <a:t>ñ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imes New Roman"/>
              </a:rPr>
              <a:t>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ando el muchacho llega al b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uch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l pelo c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 cham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, 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con un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barra de jabó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 Cuan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s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la ducha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p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una toalla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afe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c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la nava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ahoma"/>
              </a:rPr>
              <a:t>la crema de afeit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 E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mi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en el espejo cuando e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e afeit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3"/>
          <a:stretch/>
        </p:blipFill>
        <p:spPr>
          <a:xfrm>
            <a:off x="5638680" y="4191120"/>
            <a:ext cx="167508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Despu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  <a:ea typeface="Times New Roman"/>
              </a:rPr>
              <a:t>é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 de se Afeit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muchach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cepil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s dientes c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 cepillo de dien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 tubo de pasta dentríf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Desp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de se cepilla, el muchach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s manos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la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s manos con ja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y agua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1720800" cy="23623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2"/>
          <a:stretch/>
        </p:blipFill>
        <p:spPr>
          <a:xfrm>
            <a:off x="4648320" y="4648320"/>
            <a:ext cx="32288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2400480"/>
            <a:ext cx="40384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uchach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p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ropa. El muchacho se pone una camiseta, los pantalones, una corbata, y los zapa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93680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El Desayu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114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el desayuno, el muchacho se come los cereales, y la leche. Usa una cuchara para comer el desayuno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cc00"/>
                </a:solidFill>
                <a:latin typeface="Arial Black"/>
              </a:rPr>
              <a:t>Adios!</a:t>
            </a:r>
            <a:endParaRPr b="0" lang="en-US" sz="1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35:30Z</dcterms:created>
  <dc:creator>moranhun</dc:creator>
  <dc:description/>
  <dc:language>en-US</dc:language>
  <cp:lastModifiedBy>moranhun</cp:lastModifiedBy>
  <dcterms:modified xsi:type="dcterms:W3CDTF">2012-04-05T15:28:07Z</dcterms:modified>
  <cp:revision>7</cp:revision>
  <dc:subject/>
  <dc:title>La Rutina del Muchacho</dc:title>
</cp:coreProperties>
</file>